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D2E-BCAA-4BED-ABB9-E01CB59BD2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AF31-A0A6-43D4-8A8F-8B69EBFDAD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FD3-DCB2-4E2A-96EA-6874974736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F6E-25D6-4172-8031-03B5D87EEB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D6E1-C49D-41E2-865C-F15068F7CF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DB12-F382-413F-86D5-7B6B90FF74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49A6-08C8-4D62-A396-7A471B456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867D-8CA5-454A-9D45-3D76586BC3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43AB-215B-4558-B999-44C6A17838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D6B8-32C2-4071-9EFA-AF05A45057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87CE-4CFF-47F1-A797-B1CCF0D443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386F-CFC6-4D30-BCAC-0AF77FAB6F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8EE1-4882-4F18-B903-491D4FE448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20E9-9EA7-4465-B114-5FD2D91575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3149-7A28-4E88-8992-9C87CD5A6A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E320-1055-478E-A522-3DEAC7864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DFCD-01E3-49A2-9FFA-C01DE89D3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7C2-5987-41E2-B815-E1B5E88C55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5507-712C-416C-BDF6-FC1577F7E3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CA35-C100-44CA-BDB9-158C176633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D47A-64C7-400F-8129-FC6FC52816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9DF-7107-4F4D-82D3-31898E69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FCF-FA48-474D-98F0-C1EFFB49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7D7-5E81-43E8-A8E3-BB44EC29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9F5-1A6C-42D8-8BCA-02656C82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1AC-F833-4929-B205-8F00C7B2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D67-FF13-4273-9E50-7F2D012C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278-2F6C-4E69-B8C9-0E05EB5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E21-69D1-40FA-B5A3-CF4EA41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B52-5816-49E9-B4F4-DF819EA0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162-69F1-4A05-87B9-113409BF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AA7-1FDE-4C10-A62C-F9D92A5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7B3-13CD-493F-B248-430DFBA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475-8437-4376-B8B3-B90F74DB61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strawberry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07c2fb67-100e-4386-9fc1-243acd50d581.jpg (450×278)"/>
          <p:cNvPicPr/>
          <p:nvPr/>
        </p:nvPicPr>
        <p:blipFill>
          <a:blip r:embed="rId1"/>
          <a:stretch/>
        </p:blipFill>
        <p:spPr>
          <a:xfrm>
            <a:off x="1643040" y="1371600"/>
            <a:ext cx="6105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1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7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n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pe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60_main.jpg (387×382)"/>
          <p:cNvPicPr/>
          <p:nvPr/>
        </p:nvPicPr>
        <p:blipFill>
          <a:blip r:embed="rId1"/>
          <a:stretch/>
        </p:blipFill>
        <p:spPr>
          <a:xfrm>
            <a:off x="2590920" y="1447920"/>
            <a:ext cx="3686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9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 ban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alories-in-Banana.jpeg (500×335)"/>
          <p:cNvPicPr/>
          <p:nvPr/>
        </p:nvPicPr>
        <p:blipFill>
          <a:blip r:embed="rId1"/>
          <a:stretch/>
        </p:blipFill>
        <p:spPr>
          <a:xfrm>
            <a:off x="1785960" y="1450800"/>
            <a:ext cx="5643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0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lemo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fresh-lemon-juice.jpg (640×480)"/>
          <p:cNvPicPr/>
          <p:nvPr/>
        </p:nvPicPr>
        <p:blipFill>
          <a:blip r:embed="rId1"/>
          <a:stretch/>
        </p:blipFill>
        <p:spPr>
          <a:xfrm>
            <a:off x="2819520" y="16765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1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gree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pear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Green-Pear-500x700.jpg (500×700)"/>
          <p:cNvPicPr/>
          <p:nvPr/>
        </p:nvPicPr>
        <p:blipFill>
          <a:blip r:embed="rId1"/>
          <a:stretch/>
        </p:blipFill>
        <p:spPr>
          <a:xfrm>
            <a:off x="3200400" y="1447920"/>
            <a:ext cx="2666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 ban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alories-in-Banana.jpeg (500×335)"/>
          <p:cNvPicPr/>
          <p:nvPr/>
        </p:nvPicPr>
        <p:blipFill>
          <a:blip r:embed="rId1"/>
          <a:stretch/>
        </p:blipFill>
        <p:spPr>
          <a:xfrm>
            <a:off x="1785960" y="1450800"/>
            <a:ext cx="5643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9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strawberry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07c2fb67-100e-4386-9fc1-243acd50d581.jpg (450×278)"/>
          <p:cNvPicPr/>
          <p:nvPr/>
        </p:nvPicPr>
        <p:blipFill>
          <a:blip r:embed="rId1"/>
          <a:stretch/>
        </p:blipFill>
        <p:spPr>
          <a:xfrm>
            <a:off x="1643040" y="1371600"/>
            <a:ext cx="6105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4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gree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pear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Green-Pear-500x700.jpg (500×700)"/>
          <p:cNvPicPr/>
          <p:nvPr/>
        </p:nvPicPr>
        <p:blipFill>
          <a:blip r:embed="rId1"/>
          <a:stretch/>
        </p:blipFill>
        <p:spPr>
          <a:xfrm>
            <a:off x="3200400" y="1447920"/>
            <a:ext cx="2666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5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6699"/>
                </a:solidFill>
                <a:latin typeface="Arial"/>
                <a:ea typeface="굴림"/>
              </a:rPr>
              <a:t>pink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6699"/>
                </a:solidFill>
                <a:latin typeface="Arial"/>
                <a:ea typeface="굴림"/>
              </a:rPr>
              <a:t>dog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pink+dog1.jpg (297×415)"/>
          <p:cNvPicPr/>
          <p:nvPr/>
        </p:nvPicPr>
        <p:blipFill>
          <a:blip r:embed="rId1"/>
          <a:stretch/>
        </p:blipFill>
        <p:spPr>
          <a:xfrm>
            <a:off x="3048120" y="1295280"/>
            <a:ext cx="2971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6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  <a:ea typeface="굴림"/>
              </a:rPr>
              <a:t>purple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  <a:ea typeface="굴림"/>
              </a:rPr>
              <a:t>grape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peculiar_grape.jpg (500×454)"/>
          <p:cNvPicPr/>
          <p:nvPr/>
        </p:nvPicPr>
        <p:blipFill>
          <a:blip r:embed="rId1"/>
          <a:stretch/>
        </p:blipFill>
        <p:spPr>
          <a:xfrm>
            <a:off x="2286000" y="1295280"/>
            <a:ext cx="4448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8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 bana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alories-in-Banana.jpeg (500×335)"/>
          <p:cNvPicPr/>
          <p:nvPr/>
        </p:nvPicPr>
        <p:blipFill>
          <a:blip r:embed="rId1"/>
          <a:stretch/>
        </p:blipFill>
        <p:spPr>
          <a:xfrm>
            <a:off x="1785960" y="1450800"/>
            <a:ext cx="5643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9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6699"/>
                </a:solidFill>
                <a:latin typeface="Arial"/>
                <a:ea typeface="굴림"/>
              </a:rPr>
              <a:t>pink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6699"/>
                </a:solidFill>
                <a:latin typeface="Arial"/>
                <a:ea typeface="굴림"/>
              </a:rPr>
              <a:t>appl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5367424257_5a04864c5a.jpg (333×500)"/>
          <p:cNvPicPr/>
          <p:nvPr/>
        </p:nvPicPr>
        <p:blipFill>
          <a:blip r:embed="rId1"/>
          <a:stretch/>
        </p:blipFill>
        <p:spPr>
          <a:xfrm>
            <a:off x="3352680" y="1523880"/>
            <a:ext cx="24606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0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n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oranges-vitamin-c-lg.jpg (460×360)"/>
          <p:cNvPicPr/>
          <p:nvPr/>
        </p:nvPicPr>
        <p:blipFill>
          <a:blip r:embed="rId1"/>
          <a:stretch/>
        </p:blipFill>
        <p:spPr>
          <a:xfrm>
            <a:off x="1981080" y="1295280"/>
            <a:ext cx="5203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20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2240029019_19bee7effb_z.jpg (640×427)"/>
          <p:cNvPicPr/>
          <p:nvPr/>
        </p:nvPicPr>
        <p:blipFill>
          <a:blip r:embed="rId1"/>
          <a:stretch/>
        </p:blipFill>
        <p:spPr>
          <a:xfrm>
            <a:off x="1676520" y="121932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33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굴림"/>
              </a:rPr>
              <a:t>blu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굴림"/>
              </a:rPr>
              <a:t>ca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oilpainting blue cat.jpg (467×600)"/>
          <p:cNvPicPr/>
          <p:nvPr/>
        </p:nvPicPr>
        <p:blipFill>
          <a:blip r:embed="rId1"/>
          <a:stretch/>
        </p:blipFill>
        <p:spPr>
          <a:xfrm>
            <a:off x="3048120" y="1295280"/>
            <a:ext cx="30002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4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  <a:ea typeface="굴림"/>
              </a:rPr>
              <a:t>purple</a:t>
            </a:r>
            <a:r>
              <a:rPr b="0" lang="en-US" sz="4400" spc="-1" strike="noStrike">
                <a:solidFill>
                  <a:srgbClr val="00b05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  <a:ea typeface="굴림"/>
              </a:rPr>
              <a:t>grape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peculiar_grape.jpg (500×454)"/>
          <p:cNvPicPr/>
          <p:nvPr/>
        </p:nvPicPr>
        <p:blipFill>
          <a:blip r:embed="rId1"/>
          <a:stretch/>
        </p:blipFill>
        <p:spPr>
          <a:xfrm>
            <a:off x="2286000" y="1295280"/>
            <a:ext cx="4448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n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peach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60_main.jpg (387×382)"/>
          <p:cNvPicPr/>
          <p:nvPr/>
        </p:nvPicPr>
        <p:blipFill>
          <a:blip r:embed="rId1"/>
          <a:stretch/>
        </p:blipFill>
        <p:spPr>
          <a:xfrm>
            <a:off x="2590920" y="1447920"/>
            <a:ext cx="3686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2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strawberry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07c2fb67-100e-4386-9fc1-243acd50d581.jpg (450×278)"/>
          <p:cNvPicPr/>
          <p:nvPr/>
        </p:nvPicPr>
        <p:blipFill>
          <a:blip r:embed="rId1"/>
          <a:stretch/>
        </p:blipFill>
        <p:spPr>
          <a:xfrm>
            <a:off x="1643040" y="1371600"/>
            <a:ext cx="6105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제목 1"/>
          <p:cNvSpPr/>
          <p:nvPr/>
        </p:nvSpPr>
        <p:spPr>
          <a:xfrm>
            <a:off x="53352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It’s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yellow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굴림"/>
              </a:rPr>
              <a:t>lemon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굴림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resh-lemon-juice.jpg (640×480)"/>
          <p:cNvPicPr/>
          <p:nvPr/>
        </p:nvPicPr>
        <p:blipFill>
          <a:blip r:embed="rId1"/>
          <a:stretch/>
        </p:blipFill>
        <p:spPr>
          <a:xfrm>
            <a:off x="2819520" y="16765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2485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Pass the </a:t>
            </a:r>
            <a:r>
              <a:rPr b="1" lang="en-US" sz="5400" spc="-1" strike="noStrike">
                <a:solidFill>
                  <a:srgbClr val="ff0000"/>
                </a:solidFill>
                <a:latin typeface="Arial Rounded MT Bold"/>
                <a:ea typeface="굴림"/>
              </a:rPr>
              <a:t>APPLE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Red_Apple.jpg (333×300)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2:02:50Z</dcterms:created>
  <dc:creator>David</dc:creator>
  <dc:description/>
  <dc:language>en-US</dc:language>
  <cp:lastModifiedBy>.</cp:lastModifiedBy>
  <dcterms:modified xsi:type="dcterms:W3CDTF">2012-04-26T05:17:11Z</dcterms:modified>
  <cp:revision>79</cp:revision>
  <dc:subject/>
  <dc:title>passthepaperjustdoit</dc:title>
</cp:coreProperties>
</file>